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7D2-4054-4584-A293-EB86E8BA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E73-94AB-4BCD-A0AD-ED4B38DA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357-11C5-493E-9C54-87F05748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512-ED63-48A7-B9BE-3AECAA2C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7C6-DE41-4F14-BA8C-631CB70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3E7-2F56-4904-BC0B-C95FF1E9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C2C-9D71-47B0-8F13-B1A2B204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73F-8E51-4D83-9E3A-8E1CD632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B29-EEEB-4541-A2E0-66420FCF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A97-C9AF-4C34-8387-1B363C95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9B6-EB32-46E1-9CAC-BB069A44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49D-0EDA-488D-B398-73F54EA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216F0-ECF9-4615-995F-F1EF382F0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up d'e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51600" y="2604960"/>
            <a:ext cx="4425840" cy="3314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word meaning an overthrow of a government by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ethnic group in Nig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20960" y="3075120"/>
            <a:ext cx="539424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e Soyi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Yoruba man who was the first African to receive the Nobel Prize in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2240" y="3017880"/>
            <a:ext cx="29242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-Study for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crossword puzzle and share with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Read, Write, Think crossword m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ganization of African Unity, and organization formed in 1963 to promote unity among all Af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49760" y="1828800"/>
            <a:ext cx="322920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find peacefu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11520" y="2994120"/>
            <a:ext cx="534816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W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Community of West Africa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1975 to improve trade within Western Africa and with countries outside th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35360" y="4206960"/>
            <a:ext cx="3840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istence F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 of in which people grow food mainly to feed their own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17880" y="2922480"/>
            <a:ext cx="31892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h Cr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op grown to s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35360" y="3094200"/>
            <a:ext cx="3144600" cy="2849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00800" y="2522520"/>
            <a:ext cx="120960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006560" y="2743200"/>
            <a:ext cx="1209600" cy="95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4297320"/>
            <a:ext cx="12096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te of Pa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cial ceremony that marks the transition from one stage of life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20960" y="2855880"/>
            <a:ext cx="437832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r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thnic group in southwester Nig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78160" y="2851200"/>
            <a:ext cx="392112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g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thnic group in southeaster Nig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3760" y="2908440"/>
            <a:ext cx="4916520" cy="358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3:20:37Z</dcterms:created>
  <dc:creator>Nicky Stokes</dc:creator>
  <dc:description/>
  <dc:language>en-US</dc:language>
  <cp:lastModifiedBy>Nicky Stokes</cp:lastModifiedBy>
  <dcterms:modified xsi:type="dcterms:W3CDTF">2014-04-24T03:43:45Z</dcterms:modified>
  <cp:revision>2</cp:revision>
  <dc:subject/>
  <dc:title/>
</cp:coreProperties>
</file>